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8.png" ContentType="image/png"/>
  <Override PartName="/ppt/media/image12.png" ContentType="image/png"/>
  <Override PartName="/ppt/media/image7.wmf" ContentType="image/x-wm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31CA-C919-44E4-8099-AEF1AAB49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7361-A8E5-44C3-A76E-FDF49B83E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564-1405-4190-81BE-EF251537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6B09-C75E-4BBA-9AC4-161F6024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D62-03D8-4779-BC39-D8555C88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3C00-1AD0-49D0-BDA0-FDA34D64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2608-9626-470B-B02D-A4899570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A827-9EB7-4A32-8783-CAA208ED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68A-A272-452D-AD18-43530A8A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701-39EA-4BF0-BCFA-3DF9E569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733-BC4F-4793-815C-540C62D8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59B1-09C9-47AA-A4FE-F79A3B4A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BF92-FF30-4F65-A2DF-2B08425C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E01-3D7E-4C00-9020-905FD097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0A0B-D3B9-420C-9457-8CEDFAD4F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743200" y="2279520"/>
            <a:ext cx="365760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Middle Eas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4651200" cy="768240"/>
            <a:chOff x="2743200" y="378000"/>
            <a:chExt cx="465120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651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651200" cy="768240"/>
            <a:chOff x="2743200" y="378000"/>
            <a:chExt cx="465120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651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4651200" cy="768240"/>
            <a:chOff x="2743200" y="378000"/>
            <a:chExt cx="465120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651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06:31Z</dcterms:modified>
  <cp:revision>118</cp:revision>
  <dc:subject/>
  <dc:title>Museum of World Stuff</dc:title>
</cp:coreProperties>
</file>